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57C-7BFD-4F53-AB27-0C197C53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9E7-589A-4E3C-96AB-0337E262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670-DED0-4492-A2D8-B7FF4FDC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2BA-D535-440A-AC78-950DEF2F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5F2D-0850-481B-97AB-0BE3D604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A8A6-51FB-4B2F-A41A-50B69B1C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863B-B77B-480D-BB96-7B25F867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03FF-DE2E-4C86-AD83-3BC1A054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D4A6-F106-4F05-BDA8-0F23FD56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79A0-3614-4679-A657-2E12F2F8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A783-61D4-45EA-B3C9-87F9B842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0D9-C932-4ADB-A833-A0C263B0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74F1-EDE9-408C-8641-39A89E43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B7C9-56F0-4645-806A-92492F30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184C-0FC8-4E30-951A-0C410098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6AA1-7C44-4C51-828F-87C73DC2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3ACF-8266-410D-8255-2143C49F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983-BFF4-4605-8273-05B2B68F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2A2-5AFD-4F71-8CE6-95AA0541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73E-7211-4C01-BD24-B5541494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28B-E119-422E-A2C8-7C9177AF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F7F-4A24-4461-874F-E76D4626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798-6E02-4C03-A7BE-3264974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4DD-2ABF-4D09-B5D3-FDF64740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002D-F536-4ACF-B98D-2990A2CB8A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6E8B-5391-4F30-A4A1-C1AB137C95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High Tower Text"/>
              </a:rPr>
              <a:t>Creating 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High Tower Text"/>
              </a:rPr>
              <a:t>Presentation 1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igh Tower Text"/>
              </a:rPr>
              <a:t>(some tips for you and your group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know your STUFF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If you don’t understand neither will your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Lack of knowledge &amp; prep is horribly OBV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Poor preparation = more anxiety and bad gr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Impossible to explain or answer question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Take over for an ill-prepared or faltering 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Audience will be annoyed &amp; bored; lose resp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Wastes students’, teacher’s, and your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sound like you MEAN I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Appear like you actually care about cont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Speak with conviction &amp; confide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If you mess up, no one will likely noti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Do NOT simply read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Make eye contac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Respect your audience &amp; subjec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Care enough to be clear &amp; comple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ve a CONCLUSION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Don’t just STOP; prepare a conclu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ummarize key poi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Emphasize concepts, goals, outcomes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rovide a closing though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Give audience a reason to keep ca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Review material in a fun, light wa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THE END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Don’t conclude like me.  See how lazy I seem?  Do you even remember what this presentation was about … really?  Wouldn’t a refresher be nice right about now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That’s why endings are importan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DON’T JUST STOP; have and 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On Presentations in General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Know your purpose: read the rubric!  How can you do well if you don’t know what to do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Rehearse, rehearse, rehearse: practice your presentation and time yourself.  It’s easy to go way over or under time if you don’t practice.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igh Tower Text"/>
              </a:rPr>
              <a:t>More on Presentations in General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Accept nervousness as part of the proces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igh Tower Text"/>
              </a:rPr>
              <a:t>It’s natural; use the energy positive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igh Tower Text"/>
              </a:rPr>
              <a:t>Look at your audience and speak slow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igh Tower Text"/>
              </a:rPr>
              <a:t>Probably no one knows you’re nervous except you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igh Tower Text"/>
              </a:rPr>
              <a:t>Remember: no one here wants you to fa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igh Tower Text"/>
              </a:rPr>
              <a:t>Audience feels nervous too— we all feel the s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On PowerPoint Presentation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Don’t put too much on slides—hard to follow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Allow audience to listen (not read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Put key notes/points only on slid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Save words for spoken explan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Include only necessary ima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Keep slides simple &amp; ne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MCj04405710000[1]"/>
          <p:cNvPicPr/>
          <p:nvPr/>
        </p:nvPicPr>
        <p:blipFill>
          <a:blip r:embed="rId1"/>
          <a:stretch/>
        </p:blipFill>
        <p:spPr>
          <a:xfrm>
            <a:off x="6248520" y="4038480"/>
            <a:ext cx="16160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Know your AUDIENC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What do you need to explai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What can you assume they know?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What do they have in common?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How are they different?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If they don’t respond, change strateg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Give them reason to trust you and listen to yo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have an INTRODUCTION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Begin with an overview of content &amp; 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Connect with audience; get them in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Consider their interests, knowledge,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Do NOT rely on volunteers—offer incentives for particip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have a Clear STRUCTUR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Arrange points logically; each adds more mea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Start simple and move toward 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Put titles on your sl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Keep text &amp; images at a 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Rely mostly on your spoken explan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interesting CONTEN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If you’re bored by it, audience will be to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Use audio &amp; visual support if possib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Do not rely on outside stuff (videos, etc.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Find a way to make it fun &amp; acti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Use strange, surprising examples &amp; comparisons to create energy &amp; inter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igh Tower Text"/>
              </a:rPr>
              <a:t>include clear TRANSITIONS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Don’t jump from point to point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Take time to link ideas; expla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Explain connections &amp;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Use transitional words &amp; phr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2:17:57Z</dcterms:created>
  <dc:creator>Leah</dc:creator>
  <dc:description/>
  <dc:language>en-US</dc:language>
  <cp:lastModifiedBy>Leah</cp:lastModifiedBy>
  <dcterms:modified xsi:type="dcterms:W3CDTF">2011-07-14T19:44:12Z</dcterms:modified>
  <cp:revision>29</cp:revision>
  <dc:subject/>
  <dc:title>Creating  Presentation 1</dc:title>
</cp:coreProperties>
</file>